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907588" cy="6858000"/>
  <p:notesSz cx="6973888" cy="1010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973200" cy="101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94956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748800" y="758880"/>
            <a:ext cx="5473800" cy="379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96960" y="4800600"/>
            <a:ext cx="5578560" cy="454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0" y="960228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949560" y="960228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6486-6D7A-475C-913E-48F95C91C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49560" y="9602640"/>
            <a:ext cx="302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910D912-96D2-41FE-886D-83D172E622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749160" y="758880"/>
            <a:ext cx="5473800" cy="3790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96960" y="4800600"/>
            <a:ext cx="557856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1DC-B08D-45EB-9306-BEBA8002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9B4-070D-4DEF-B1E0-DAB4B1A7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6060-742B-489B-8F17-DA6F1D5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DD7A1-19E9-49AC-90F1-B0FD524F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80994-3F9C-4FBC-80AB-61B5F850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3B6E-3BD7-4B55-8FC6-9F4BABD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96111-7E08-45D2-B991-45CE723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ABB53-410C-4421-BB5B-0B19F5C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F0A44-898B-4EFC-9281-B2D48852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E8FFD-99B6-4D79-8140-DB8F2E71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4B357-DB8E-4CD1-8E89-4155D0C6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E62B0-02F3-491E-B65A-DA437AF6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362-D75C-42F3-BE38-D1691FD2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53585-9EC4-48E8-8A0B-A9DC10C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8C931-A45C-4455-8083-7C387EE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FEC53-3406-4B99-AE12-F4CE04F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06972-AC3B-48CB-8C78-EB1ED38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A52C4-0197-485B-B62B-420BF77B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3B8D-1922-40E2-BF2C-BACE37C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9E69-195C-44F3-8C97-614FF961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209DE-AA91-43F6-BC7E-EEB1B6F7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F956A-CE77-44B7-BC2B-0D9EC45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D2DE8-7493-4790-8A2C-82D7FB10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6A-6B1C-4722-BF1F-13FA4D7F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47F34-4160-4B20-B79D-D03F0A79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156F-8D9C-4360-9DB7-471CFA62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03A5D-99A4-40C1-9AD4-B25B51FC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8EAA8-2AD4-4DFA-8C00-3E2F4C1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BA42C-E8EA-4A87-92CA-D21A69F1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0C006-DFFB-4CF6-AEA9-C7DC3D7F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2835-8B48-42F7-B798-107A2740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32BEC-1BF6-4A1C-A3DD-863FBAF0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30C3C-8BF7-451C-9776-EFE93E9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E6F2A-5F0B-428A-BEFF-385EA4C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BAC-6AB4-4C8F-A607-DD4E63D7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AC6E3-C804-4518-994E-586A158C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96E3D-A477-4ED9-86D9-C569D3AB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12807-660E-44F0-8945-B0D905EC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6C163-2A1D-427D-BD22-D782EFB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A0B00-8C28-40AE-B407-74ED57B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4C375-481B-470D-815B-1DFE5B4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171DD-C981-401C-ADBB-C98254D9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3A5B9-5529-459E-9AC7-E5A46B0A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12D36-ADF8-4997-A106-C8CC381A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4BC67-3E22-4C99-9CEF-FE81C401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43F-CAFD-4908-A5B1-AEA9E5FE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5BE37-462C-487F-8EDB-183DF6FE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0C953-D60D-4C60-A93A-23D4B92D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7D807-9258-423C-BF23-93F2BCA3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EFEE2-10DD-4F74-AFA3-BDC3E3B5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509F5-4234-4596-AC71-9D148762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C6C9-3430-4C2A-BD5C-5A7157D2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E96B-D990-45C4-BC37-B0A1362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9792-B0DD-432D-B34B-500A8E5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1AF-8BFD-4286-AC1C-D320F851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B724-BC36-4665-871B-DE47D43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D76-A4F2-4B83-ACD7-7355AA1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6AA-78F9-4CF0-9839-3AEEE7B0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74F-7EBE-41BC-86C7-4160828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85A0-0134-4650-A309-975FFBB1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AB00-C497-46A5-B8D1-7D658D49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7BB2-57A0-4B61-8FCB-718332EB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269F-ED56-4601-8BB4-466B0A05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BA5D-950F-461A-A617-60B3A8E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EFE3-3D4F-46B8-A716-88AF4B85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A9DA-5D4C-42F1-AA04-BB770A8F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C4BB-7C82-4778-BC85-B1525303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94E-3696-4703-9A45-A6372B9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8A21-FF4D-47A9-9DA9-93A37DB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CCEC-BCD7-44EC-ADD6-89DDBDBC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6C3B-9478-4C09-9666-D1AFB64E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72C9-4C4C-4A8E-9996-89282C4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0030-E830-4638-9041-EFF2634E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8E71-465C-4470-AEBA-3AD34D4E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A91B-FDC8-4C92-8A12-AF0F0D01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6E9E-A99C-49DC-851C-6CF3C376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C337-7B55-4CE4-8DF6-6F270011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E99A-7B90-4274-9137-0682F961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A92-8155-4686-A315-C42DA4A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D358-22EF-4BDF-8D91-04B540C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24E6-1FF5-4A1E-9AFC-24F7229E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7363B-2D11-4A73-BFAF-1415B09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C6F2-DBA8-4919-921B-F6E6E10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0283-B8ED-439B-8476-D10DEBE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A50A-4EE2-497F-A551-FF7D22D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737C-B76F-4C49-BC9A-3EBB02DD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73C8-B8BE-4864-AF51-C62D81B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9E69-1E90-47F3-B18E-DE77D14D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D194-5CD8-4210-9C50-191F2C92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6B9-BA2D-4437-B9D3-C6550A9A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800C-01FE-4463-84BC-D8B9C66C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D60F-04F2-4E30-A81F-DA54E52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8F21-CEDC-4ED5-B301-75E2DE2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98AB0-C28B-4D66-947A-50E3AE67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8735-8F48-4A10-B625-A0E6518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9CCB-E8D1-46BA-83EC-2F93E41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0EA2-3A9F-42FA-92ED-FDA7FD6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55DD-0E19-42FC-B867-DD122AF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4184-A60D-4157-9185-4688E0B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9FF5D-5C5D-49A1-830C-06F183D7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40D-1D4C-4CB0-8FD4-5A738210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12F2E-E133-4B96-B3BC-242B5056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BB32-8CB2-4C05-98B0-987D3A2C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6B49-F063-4AB6-9F0D-C6164FF1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41B0-7100-4914-9351-33450FB5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5370-3326-42E8-BC9F-E180BB9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3056-FDAA-47B2-9129-26444C6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2F14-FBBA-49D1-B14D-2552F8F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769D-ABCF-47E5-852A-D6A12C4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A1CFE-06FE-4114-B9B0-6624308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2AF08-8B09-464A-B612-AAF1F97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1A6-FC3D-424A-B9F5-C211BCF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84DE-C7AE-4E4B-A135-3E75879B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0692-12E2-484F-BBA4-E06B4AFE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A86B1-2AB8-4A7E-87BE-8C5EA4AE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63882-B723-4FB4-BE39-BB2AF49C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A240-C0A8-4369-B255-6415CE8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4FBAC-9200-4AEE-B175-6A13243C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CCB2-8536-40C6-B16C-A65AA8B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F2B8-990B-4A9D-91DE-B09F6DC9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4B441-FA95-4D1F-B4DC-78F51EEC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21F1-1A5F-4183-9BF9-AA87AE0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ACD-C433-4076-BDBA-68158C8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BF914-EFC5-4F41-8DFD-238F37B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E594B-89A3-416D-8EED-C23CA7D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6326-5B3D-4F9E-BC0B-662D898E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7DBA8-1F55-410D-8726-D1A31DB4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E2AF-77F8-41FF-A65B-40EAA946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C5B0-1419-4A3C-ADDD-77A393F7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B599-8B1B-4C81-BC5A-9B26FB2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FCC43-4AC2-4DFE-970A-18C92E5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9A69-F79F-4517-B3BC-67ECF11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0266-9894-4962-A297-7211195B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9F4-9FA3-446C-91C0-FA59B62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D622-5A26-4FA6-B426-B0DE23C1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B14D-85B0-4788-920C-3112EFF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ABD9B-D3D3-4119-A0F2-BD4AFEC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67B5D-45EE-489F-A97F-5460793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5CDC0-D9BD-4EB7-A87F-A680F463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84371-CA73-43E2-980A-D5077F7A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603A1-AE80-41A1-8D92-31294C2A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9C881-983C-4FCB-B308-10E64FFE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9DE88-E91C-4C7C-B5E2-3174284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9AB83-58AC-49DC-9C41-64601F6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891360" cy="6845400"/>
            <a:chOff x="0" y="1440"/>
            <a:chExt cx="9891360" cy="6845400"/>
          </a:xfrm>
        </p:grpSpPr>
        <p:sp>
          <p:nvSpPr>
            <p:cNvPr id="1" name="Freeform 3"/>
            <p:cNvSpPr/>
            <p:nvPr/>
          </p:nvSpPr>
          <p:spPr>
            <a:xfrm>
              <a:off x="5835600" y="1585800"/>
              <a:ext cx="405576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10944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D66B-AE90-4E53-9C51-9448F2B2F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AB6-591E-4B7C-94CA-125CD66D2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707C-5EFD-44C3-8B58-8E441E33D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C5A8-F948-4B7E-A0FC-0DD504CA9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120680" y="1552680"/>
            <a:ext cx="11026440" cy="5305320"/>
            <a:chOff x="-1120680" y="1552680"/>
            <a:chExt cx="11026440" cy="5305320"/>
          </a:xfrm>
        </p:grpSpPr>
        <p:sp>
          <p:nvSpPr>
            <p:cNvPr id="45" name="Freeform 3"/>
            <p:cNvSpPr/>
            <p:nvPr/>
          </p:nvSpPr>
          <p:spPr>
            <a:xfrm>
              <a:off x="3544560" y="2709720"/>
              <a:ext cx="636120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20680" y="1552680"/>
              <a:ext cx="728640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8A4-5CF1-49FB-98DF-4AA231008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6A9-FE08-40E0-A082-1BA5BA45A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DEE4-766E-4C00-B18C-3CB4E3D85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FD8-B852-4A7D-8671-1CCF4A3F1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F654-2C29-4D8E-9EDD-0DC9184AE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1F53-AA8E-4F3F-AF9F-8D3F4F8F8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8F2-4AC7-4D98-94C9-44C73B90F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6B9-510C-49A6-8D59-486166DF8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6"/>
          <p:cNvSpPr/>
          <p:nvPr/>
        </p:nvSpPr>
        <p:spPr>
          <a:xfrm>
            <a:off x="-879480" y="3390840"/>
            <a:ext cx="99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14"/>
          <p:cNvSpPr/>
          <p:nvPr/>
        </p:nvSpPr>
        <p:spPr>
          <a:xfrm>
            <a:off x="3024360" y="762120"/>
            <a:ext cx="1643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.00 LL SUMP  AT GANDHI PA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IA  : 36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15"/>
          <p:cNvSpPr/>
          <p:nvPr/>
        </p:nvSpPr>
        <p:spPr>
          <a:xfrm>
            <a:off x="4819680" y="681120"/>
            <a:ext cx="743040" cy="5331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16"/>
          <p:cNvSpPr/>
          <p:nvPr/>
        </p:nvSpPr>
        <p:spPr>
          <a:xfrm>
            <a:off x="5181480" y="1066680"/>
            <a:ext cx="0" cy="14385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17"/>
          <p:cNvSpPr/>
          <p:nvPr/>
        </p:nvSpPr>
        <p:spPr>
          <a:xfrm flipV="1">
            <a:off x="3733920" y="2505240"/>
            <a:ext cx="144756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18"/>
          <p:cNvSpPr/>
          <p:nvPr/>
        </p:nvSpPr>
        <p:spPr>
          <a:xfrm>
            <a:off x="3733920" y="3419640"/>
            <a:ext cx="182880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19"/>
          <p:cNvSpPr/>
          <p:nvPr/>
        </p:nvSpPr>
        <p:spPr>
          <a:xfrm>
            <a:off x="5562720" y="4334040"/>
            <a:ext cx="2676240" cy="237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20"/>
          <p:cNvSpPr/>
          <p:nvPr/>
        </p:nvSpPr>
        <p:spPr>
          <a:xfrm flipV="1">
            <a:off x="8238960" y="1714680"/>
            <a:ext cx="142920" cy="2643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21"/>
          <p:cNvSpPr/>
          <p:nvPr/>
        </p:nvSpPr>
        <p:spPr>
          <a:xfrm flipH="1">
            <a:off x="2895120" y="3419640"/>
            <a:ext cx="83844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22"/>
          <p:cNvSpPr/>
          <p:nvPr/>
        </p:nvSpPr>
        <p:spPr>
          <a:xfrm>
            <a:off x="1595520" y="4714920"/>
            <a:ext cx="1299960" cy="25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24"/>
          <p:cNvSpPr/>
          <p:nvPr/>
        </p:nvSpPr>
        <p:spPr>
          <a:xfrm flipH="1">
            <a:off x="5181120" y="1971720"/>
            <a:ext cx="8384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25"/>
          <p:cNvSpPr/>
          <p:nvPr/>
        </p:nvSpPr>
        <p:spPr>
          <a:xfrm>
            <a:off x="6524640" y="1571760"/>
            <a:ext cx="121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00LL SR @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NDHIPARK(EX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126"/>
          <p:cNvGrpSpPr/>
          <p:nvPr/>
        </p:nvGrpSpPr>
        <p:grpSpPr>
          <a:xfrm>
            <a:off x="5991120" y="1857240"/>
            <a:ext cx="495000" cy="457200"/>
            <a:chOff x="5991120" y="1857240"/>
            <a:chExt cx="495000" cy="457200"/>
          </a:xfrm>
        </p:grpSpPr>
        <p:sp>
          <p:nvSpPr>
            <p:cNvPr id="518" name="Line 127"/>
            <p:cNvSpPr/>
            <p:nvPr/>
          </p:nvSpPr>
          <p:spPr>
            <a:xfrm>
              <a:off x="6061680" y="205704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28"/>
            <p:cNvSpPr/>
            <p:nvPr/>
          </p:nvSpPr>
          <p:spPr>
            <a:xfrm>
              <a:off x="6061680" y="212688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29"/>
            <p:cNvSpPr/>
            <p:nvPr/>
          </p:nvSpPr>
          <p:spPr>
            <a:xfrm flipV="1">
              <a:off x="6247080" y="2117520"/>
              <a:ext cx="18756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30"/>
            <p:cNvSpPr/>
            <p:nvPr/>
          </p:nvSpPr>
          <p:spPr>
            <a:xfrm>
              <a:off x="6061680" y="224136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31"/>
            <p:cNvSpPr/>
            <p:nvPr/>
          </p:nvSpPr>
          <p:spPr>
            <a:xfrm>
              <a:off x="6247080" y="204768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132"/>
            <p:cNvSpPr/>
            <p:nvPr/>
          </p:nvSpPr>
          <p:spPr>
            <a:xfrm flipV="1">
              <a:off x="6247080" y="2234520"/>
              <a:ext cx="18756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133"/>
            <p:cNvSpPr/>
            <p:nvPr/>
          </p:nvSpPr>
          <p:spPr>
            <a:xfrm>
              <a:off x="6434640" y="205704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134"/>
            <p:cNvSpPr/>
            <p:nvPr/>
          </p:nvSpPr>
          <p:spPr>
            <a:xfrm>
              <a:off x="5999400" y="18572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" name="Group 135"/>
            <p:cNvGrpSpPr/>
            <p:nvPr/>
          </p:nvGrpSpPr>
          <p:grpSpPr>
            <a:xfrm>
              <a:off x="5991120" y="1895400"/>
              <a:ext cx="486000" cy="180000"/>
              <a:chOff x="5991120" y="1895400"/>
              <a:chExt cx="486000" cy="180000"/>
            </a:xfrm>
          </p:grpSpPr>
          <p:sp>
            <p:nvSpPr>
              <p:cNvPr id="527" name="Rectangle 136"/>
              <p:cNvSpPr/>
              <p:nvPr/>
            </p:nvSpPr>
            <p:spPr>
              <a:xfrm>
                <a:off x="6018480" y="18954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37"/>
              <p:cNvSpPr/>
              <p:nvPr/>
            </p:nvSpPr>
            <p:spPr>
              <a:xfrm>
                <a:off x="5991120" y="20469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51"/>
          <p:cNvSpPr/>
          <p:nvPr/>
        </p:nvSpPr>
        <p:spPr>
          <a:xfrm>
            <a:off x="8238960" y="928800"/>
            <a:ext cx="1428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.00LL SR @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NA COLONY (EX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152"/>
          <p:cNvGrpSpPr/>
          <p:nvPr/>
        </p:nvGrpSpPr>
        <p:grpSpPr>
          <a:xfrm>
            <a:off x="8739360" y="1571760"/>
            <a:ext cx="494640" cy="457200"/>
            <a:chOff x="8739360" y="1571760"/>
            <a:chExt cx="494640" cy="457200"/>
          </a:xfrm>
        </p:grpSpPr>
        <p:sp>
          <p:nvSpPr>
            <p:cNvPr id="531" name="Line 153"/>
            <p:cNvSpPr/>
            <p:nvPr/>
          </p:nvSpPr>
          <p:spPr>
            <a:xfrm>
              <a:off x="8809560" y="177156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54"/>
            <p:cNvSpPr/>
            <p:nvPr/>
          </p:nvSpPr>
          <p:spPr>
            <a:xfrm>
              <a:off x="8809560" y="184140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55"/>
            <p:cNvSpPr/>
            <p:nvPr/>
          </p:nvSpPr>
          <p:spPr>
            <a:xfrm flipV="1">
              <a:off x="8995320" y="1832040"/>
              <a:ext cx="18720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56"/>
            <p:cNvSpPr/>
            <p:nvPr/>
          </p:nvSpPr>
          <p:spPr>
            <a:xfrm>
              <a:off x="8809560" y="195588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57"/>
            <p:cNvSpPr/>
            <p:nvPr/>
          </p:nvSpPr>
          <p:spPr>
            <a:xfrm>
              <a:off x="8995320" y="176220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58"/>
            <p:cNvSpPr/>
            <p:nvPr/>
          </p:nvSpPr>
          <p:spPr>
            <a:xfrm flipV="1">
              <a:off x="8995320" y="1949040"/>
              <a:ext cx="18720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59"/>
            <p:cNvSpPr/>
            <p:nvPr/>
          </p:nvSpPr>
          <p:spPr>
            <a:xfrm>
              <a:off x="9182880" y="177156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160"/>
            <p:cNvSpPr/>
            <p:nvPr/>
          </p:nvSpPr>
          <p:spPr>
            <a:xfrm>
              <a:off x="8747640" y="157176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9" name="Group 161"/>
            <p:cNvGrpSpPr/>
            <p:nvPr/>
          </p:nvGrpSpPr>
          <p:grpSpPr>
            <a:xfrm>
              <a:off x="8739360" y="1609920"/>
              <a:ext cx="485640" cy="180000"/>
              <a:chOff x="8739360" y="1609920"/>
              <a:chExt cx="485640" cy="180000"/>
            </a:xfrm>
          </p:grpSpPr>
          <p:sp>
            <p:nvSpPr>
              <p:cNvPr id="540" name="Rectangle 162"/>
              <p:cNvSpPr/>
              <p:nvPr/>
            </p:nvSpPr>
            <p:spPr>
              <a:xfrm>
                <a:off x="8766720" y="160992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63"/>
              <p:cNvSpPr/>
              <p:nvPr/>
            </p:nvSpPr>
            <p:spPr>
              <a:xfrm>
                <a:off x="8739360" y="176148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Text Box 164"/>
          <p:cNvSpPr/>
          <p:nvPr/>
        </p:nvSpPr>
        <p:spPr>
          <a:xfrm>
            <a:off x="3166920" y="6000840"/>
            <a:ext cx="1976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0 LL SR @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NICIPAL OFFICE (EXIST)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65"/>
          <p:cNvGrpSpPr/>
          <p:nvPr/>
        </p:nvGrpSpPr>
        <p:grpSpPr>
          <a:xfrm>
            <a:off x="2671920" y="5857920"/>
            <a:ext cx="494640" cy="457200"/>
            <a:chOff x="2671920" y="5857920"/>
            <a:chExt cx="494640" cy="457200"/>
          </a:xfrm>
        </p:grpSpPr>
        <p:sp>
          <p:nvSpPr>
            <p:cNvPr id="544" name="Line 166"/>
            <p:cNvSpPr/>
            <p:nvPr/>
          </p:nvSpPr>
          <p:spPr>
            <a:xfrm>
              <a:off x="2742120" y="605772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67"/>
            <p:cNvSpPr/>
            <p:nvPr/>
          </p:nvSpPr>
          <p:spPr>
            <a:xfrm>
              <a:off x="2742120" y="612756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68"/>
            <p:cNvSpPr/>
            <p:nvPr/>
          </p:nvSpPr>
          <p:spPr>
            <a:xfrm flipV="1">
              <a:off x="2927880" y="6118200"/>
              <a:ext cx="18720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69"/>
            <p:cNvSpPr/>
            <p:nvPr/>
          </p:nvSpPr>
          <p:spPr>
            <a:xfrm>
              <a:off x="2742120" y="624204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70"/>
            <p:cNvSpPr/>
            <p:nvPr/>
          </p:nvSpPr>
          <p:spPr>
            <a:xfrm>
              <a:off x="2927880" y="604836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71"/>
            <p:cNvSpPr/>
            <p:nvPr/>
          </p:nvSpPr>
          <p:spPr>
            <a:xfrm flipV="1">
              <a:off x="2927880" y="6235200"/>
              <a:ext cx="18720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172"/>
            <p:cNvSpPr/>
            <p:nvPr/>
          </p:nvSpPr>
          <p:spPr>
            <a:xfrm>
              <a:off x="3115440" y="605772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173"/>
            <p:cNvSpPr/>
            <p:nvPr/>
          </p:nvSpPr>
          <p:spPr>
            <a:xfrm>
              <a:off x="2680200" y="585792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174"/>
            <p:cNvGrpSpPr/>
            <p:nvPr/>
          </p:nvGrpSpPr>
          <p:grpSpPr>
            <a:xfrm>
              <a:off x="2671920" y="5896080"/>
              <a:ext cx="485640" cy="180000"/>
              <a:chOff x="2671920" y="5896080"/>
              <a:chExt cx="485640" cy="180000"/>
            </a:xfrm>
          </p:grpSpPr>
          <p:sp>
            <p:nvSpPr>
              <p:cNvPr id="553" name="Rectangle 175"/>
              <p:cNvSpPr/>
              <p:nvPr/>
            </p:nvSpPr>
            <p:spPr>
              <a:xfrm>
                <a:off x="2699280" y="589608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176"/>
              <p:cNvSpPr/>
              <p:nvPr/>
            </p:nvSpPr>
            <p:spPr>
              <a:xfrm>
                <a:off x="2671920" y="604764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Line 177"/>
          <p:cNvSpPr/>
          <p:nvPr/>
        </p:nvSpPr>
        <p:spPr>
          <a:xfrm>
            <a:off x="2895480" y="4714920"/>
            <a:ext cx="0" cy="1143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79"/>
          <p:cNvSpPr/>
          <p:nvPr/>
        </p:nvSpPr>
        <p:spPr>
          <a:xfrm>
            <a:off x="237960" y="4500720"/>
            <a:ext cx="135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.0 LL SR @ GANDHI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EX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180"/>
          <p:cNvGrpSpPr/>
          <p:nvPr/>
        </p:nvGrpSpPr>
        <p:grpSpPr>
          <a:xfrm>
            <a:off x="452520" y="5143680"/>
            <a:ext cx="495000" cy="457200"/>
            <a:chOff x="452520" y="5143680"/>
            <a:chExt cx="495000" cy="457200"/>
          </a:xfrm>
        </p:grpSpPr>
        <p:sp>
          <p:nvSpPr>
            <p:cNvPr id="558" name="Line 181"/>
            <p:cNvSpPr/>
            <p:nvPr/>
          </p:nvSpPr>
          <p:spPr>
            <a:xfrm>
              <a:off x="523080" y="534348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82"/>
            <p:cNvSpPr/>
            <p:nvPr/>
          </p:nvSpPr>
          <p:spPr>
            <a:xfrm>
              <a:off x="523080" y="541332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83"/>
            <p:cNvSpPr/>
            <p:nvPr/>
          </p:nvSpPr>
          <p:spPr>
            <a:xfrm flipV="1">
              <a:off x="708480" y="5403960"/>
              <a:ext cx="18756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84"/>
            <p:cNvSpPr/>
            <p:nvPr/>
          </p:nvSpPr>
          <p:spPr>
            <a:xfrm>
              <a:off x="523080" y="552780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85"/>
            <p:cNvSpPr/>
            <p:nvPr/>
          </p:nvSpPr>
          <p:spPr>
            <a:xfrm>
              <a:off x="708480" y="533412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86"/>
            <p:cNvSpPr/>
            <p:nvPr/>
          </p:nvSpPr>
          <p:spPr>
            <a:xfrm flipV="1">
              <a:off x="708480" y="5520960"/>
              <a:ext cx="18756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87"/>
            <p:cNvSpPr/>
            <p:nvPr/>
          </p:nvSpPr>
          <p:spPr>
            <a:xfrm>
              <a:off x="896040" y="534348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Rectangle 188"/>
            <p:cNvSpPr/>
            <p:nvPr/>
          </p:nvSpPr>
          <p:spPr>
            <a:xfrm>
              <a:off x="460800" y="5143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189"/>
            <p:cNvGrpSpPr/>
            <p:nvPr/>
          </p:nvGrpSpPr>
          <p:grpSpPr>
            <a:xfrm>
              <a:off x="452520" y="5181840"/>
              <a:ext cx="486000" cy="180000"/>
              <a:chOff x="452520" y="5181840"/>
              <a:chExt cx="486000" cy="180000"/>
            </a:xfrm>
          </p:grpSpPr>
          <p:sp>
            <p:nvSpPr>
              <p:cNvPr id="567" name="Rectangle 190"/>
              <p:cNvSpPr/>
              <p:nvPr/>
            </p:nvSpPr>
            <p:spPr>
              <a:xfrm>
                <a:off x="479880" y="5181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191"/>
              <p:cNvSpPr/>
              <p:nvPr/>
            </p:nvSpPr>
            <p:spPr>
              <a:xfrm>
                <a:off x="452520" y="5333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Text Box 192"/>
          <p:cNvSpPr/>
          <p:nvPr/>
        </p:nvSpPr>
        <p:spPr>
          <a:xfrm>
            <a:off x="5105520" y="129528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2317/324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93"/>
          <p:cNvSpPr/>
          <p:nvPr/>
        </p:nvSpPr>
        <p:spPr>
          <a:xfrm>
            <a:off x="4452840" y="1571760"/>
            <a:ext cx="86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94"/>
          <p:cNvSpPr/>
          <p:nvPr/>
        </p:nvSpPr>
        <p:spPr>
          <a:xfrm>
            <a:off x="4524480" y="185724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S 2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5"/>
          <p:cNvSpPr/>
          <p:nvPr/>
        </p:nvSpPr>
        <p:spPr>
          <a:xfrm>
            <a:off x="2997360" y="331488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S 28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96"/>
          <p:cNvSpPr/>
          <p:nvPr/>
        </p:nvSpPr>
        <p:spPr>
          <a:xfrm rot="19750200">
            <a:off x="3885840" y="272376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1900/265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97"/>
          <p:cNvSpPr/>
          <p:nvPr/>
        </p:nvSpPr>
        <p:spPr>
          <a:xfrm rot="19660200">
            <a:off x="4308840" y="2900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98"/>
          <p:cNvSpPr/>
          <p:nvPr/>
        </p:nvSpPr>
        <p:spPr>
          <a:xfrm>
            <a:off x="8381880" y="2071800"/>
            <a:ext cx="83844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S 155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99"/>
          <p:cNvSpPr/>
          <p:nvPr/>
        </p:nvSpPr>
        <p:spPr>
          <a:xfrm>
            <a:off x="5667480" y="407196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900/12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00"/>
          <p:cNvSpPr/>
          <p:nvPr/>
        </p:nvSpPr>
        <p:spPr>
          <a:xfrm>
            <a:off x="7310520" y="40719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1"/>
          <p:cNvSpPr/>
          <p:nvPr/>
        </p:nvSpPr>
        <p:spPr>
          <a:xfrm rot="18169800">
            <a:off x="3049200" y="4271760"/>
            <a:ext cx="590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6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02"/>
          <p:cNvSpPr/>
          <p:nvPr/>
        </p:nvSpPr>
        <p:spPr>
          <a:xfrm>
            <a:off x="3166920" y="5715000"/>
            <a:ext cx="83844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7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03"/>
          <p:cNvSpPr/>
          <p:nvPr/>
        </p:nvSpPr>
        <p:spPr>
          <a:xfrm>
            <a:off x="452520" y="557208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72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07"/>
          <p:cNvSpPr/>
          <p:nvPr/>
        </p:nvSpPr>
        <p:spPr>
          <a:xfrm>
            <a:off x="5097600" y="198900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417 / 5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08"/>
          <p:cNvSpPr/>
          <p:nvPr/>
        </p:nvSpPr>
        <p:spPr>
          <a:xfrm>
            <a:off x="5307120" y="2270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209"/>
          <p:cNvSpPr/>
          <p:nvPr/>
        </p:nvSpPr>
        <p:spPr>
          <a:xfrm>
            <a:off x="5810400" y="164304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10"/>
          <p:cNvSpPr/>
          <p:nvPr/>
        </p:nvSpPr>
        <p:spPr>
          <a:xfrm>
            <a:off x="3381480" y="378612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11"/>
          <p:cNvSpPr/>
          <p:nvPr/>
        </p:nvSpPr>
        <p:spPr>
          <a:xfrm>
            <a:off x="2432160" y="378936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1000/139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212"/>
          <p:cNvSpPr/>
          <p:nvPr/>
        </p:nvSpPr>
        <p:spPr>
          <a:xfrm>
            <a:off x="1447920" y="451152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583/8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13"/>
          <p:cNvSpPr/>
          <p:nvPr/>
        </p:nvSpPr>
        <p:spPr>
          <a:xfrm>
            <a:off x="1600200" y="47847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14"/>
          <p:cNvSpPr/>
          <p:nvPr/>
        </p:nvSpPr>
        <p:spPr>
          <a:xfrm>
            <a:off x="1952640" y="535788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417/5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15"/>
          <p:cNvSpPr/>
          <p:nvPr/>
        </p:nvSpPr>
        <p:spPr>
          <a:xfrm rot="16200000">
            <a:off x="2643120" y="5238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216"/>
          <p:cNvSpPr/>
          <p:nvPr/>
        </p:nvSpPr>
        <p:spPr>
          <a:xfrm>
            <a:off x="647640" y="0"/>
            <a:ext cx="857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LUR CWSS – MELUR MUNICIPALITY IN MADURAI  DISTRICT  -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LOW DIAGRAM (  AS  PER  SCOPE  OF  MELUR  CW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17"/>
          <p:cNvSpPr/>
          <p:nvPr/>
        </p:nvSpPr>
        <p:spPr>
          <a:xfrm>
            <a:off x="2743200" y="121932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  HP OW SUB P’S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2317 LPM x  27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219"/>
          <p:cNvSpPr/>
          <p:nvPr/>
        </p:nvSpPr>
        <p:spPr>
          <a:xfrm>
            <a:off x="152280" y="0"/>
            <a:ext cx="9677520" cy="685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24"/>
          <p:cNvSpPr/>
          <p:nvPr/>
        </p:nvSpPr>
        <p:spPr>
          <a:xfrm flipH="1">
            <a:off x="8381520" y="1668600"/>
            <a:ext cx="428760" cy="46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Straight Connector 95"/>
          <p:cNvSpPr/>
          <p:nvPr/>
        </p:nvSpPr>
        <p:spPr>
          <a:xfrm flipH="1">
            <a:off x="1593360" y="4716360"/>
            <a:ext cx="1800" cy="8575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Straight Connector 97"/>
          <p:cNvSpPr/>
          <p:nvPr/>
        </p:nvSpPr>
        <p:spPr>
          <a:xfrm flipH="1" flipV="1">
            <a:off x="871200" y="5571720"/>
            <a:ext cx="723960" cy="1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6:48:34Z</dcterms:created>
  <dc:creator>PDC</dc:creator>
  <dc:description/>
  <dc:language>en-US</dc:language>
  <cp:lastModifiedBy>Administrator</cp:lastModifiedBy>
  <dcterms:modified xsi:type="dcterms:W3CDTF">2016-07-02T05:16:56Z</dcterms:modified>
  <cp:revision>491</cp:revision>
  <dc:subject/>
  <dc:title>Slide 1</dc:title>
</cp:coreProperties>
</file>